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D4C-E901-4C52-B970-899F78E8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433-CF61-4539-BB27-DAE7F400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096-A929-40B5-BF34-13D8B790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573-2582-4831-AECC-459DFE08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F359-63C6-4AED-ACD5-D27CF635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7520-1753-4EE9-9AF2-0FF2F311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EE9C-81A4-42DF-A404-D96703DB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2C04-8716-4DC3-8B42-9D2C8DCD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1783-A4EF-49F8-A848-5817F92D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176D-EC65-4683-87E2-09E271BA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B689-5300-4979-A548-CF0DBCB5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88E-4BD2-477F-80ED-437E1D3A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85F5-BF88-4031-B3DB-6344008D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92D1-B325-4170-8E86-CEEF2B14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D96E-16AD-4C44-826E-8DCB3379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4B78-9444-46E3-8C22-7F8A9B1E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996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4280" y="198108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996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4280" y="413064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6049-2567-437C-8D5B-7E42F2CD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BFE-7CBA-4C7B-AE4C-A634FF58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673-74AC-4D72-8043-A3E7214B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426-8C01-4029-B474-D5B9B88F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519-10E6-4E84-9817-CF6F8977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16B-61DE-4435-8864-8744F5B8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65960" y="413064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9B5-5D49-40FF-AECC-D580A479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65960" y="198108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413064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A68-F127-40CA-BCA9-1090B16E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F79F-9EAD-4DC2-ABD6-61EC0732F30B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CA9E-DB69-4AC8-B878-AEBB0785CE38}" type="slidenum">
              <a:rPr b="0" lang="en-US" sz="1400" spc="-1" strike="noStrike">
                <a:solidFill>
                  <a:srgbClr val="ffff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Jayden’s awesome power point presentation 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520" y="4419720"/>
            <a:ext cx="57913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Introducing  Possessive  Apostrophes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Jaydens great computer= Jayden’s great comput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124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Find the owner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3200400"/>
            <a:ext cx="6400800" cy="825480"/>
          </a:xfrm>
          <a:prstGeom prst="rect">
            <a:avLst/>
          </a:prstGeom>
          <a:solidFill>
            <a:srgbClr val="821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Jayden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42900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1148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Jayden’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962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apostrophe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434340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Jayden’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029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s if there is’t an 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828800" y="5410080"/>
            <a:ext cx="380988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omas Xbox= Thomas’ X-box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124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Find the owner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3200400"/>
            <a:ext cx="6400800" cy="825480"/>
          </a:xfrm>
          <a:prstGeom prst="rect">
            <a:avLst/>
          </a:prstGeom>
          <a:solidFill>
            <a:srgbClr val="821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Thoma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342900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41148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Thomas’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962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apostrophe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34340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Thomas’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029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s if there is’t an 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828800" y="5410080"/>
            <a:ext cx="380988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Joshs football=Josh’s football 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124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Find the owner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3200400"/>
            <a:ext cx="6400800" cy="825480"/>
          </a:xfrm>
          <a:prstGeom prst="rect">
            <a:avLst/>
          </a:prstGeom>
          <a:solidFill>
            <a:srgbClr val="821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Josh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342900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1148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Josh’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962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apostrophe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34340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Josh’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0292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s if there isn’t an 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828800" y="5410080"/>
            <a:ext cx="380988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an no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19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Take out no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200400"/>
            <a:ext cx="6400800" cy="825480"/>
          </a:xfrm>
          <a:prstGeom prst="rect">
            <a:avLst/>
          </a:prstGeom>
          <a:solidFill>
            <a:srgbClr val="821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Can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42900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41148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Can’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9625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apostrophe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434340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Can’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the 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828800" y="5410080"/>
            <a:ext cx="380988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o no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19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Write base words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200400"/>
            <a:ext cx="6400800" cy="825480"/>
          </a:xfrm>
          <a:prstGeom prst="rect">
            <a:avLst/>
          </a:prstGeom>
          <a:solidFill>
            <a:srgbClr val="821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Do no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429000"/>
            <a:ext cx="35053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411480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  <a:ea typeface="ヒラギノ角ゴ Pro W3"/>
              </a:rPr>
              <a:t>Don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88620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Delete the letters you do not need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343400"/>
            <a:ext cx="3657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51055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              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Don’t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18148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Lucida Grande"/>
              </a:rPr>
              <a:t>Add the ‘ where you took the letters out </a:t>
            </a:r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828800" y="5410080"/>
            <a:ext cx="3809880" cy="763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4:16:40Z</dcterms:created>
  <dc:creator>502</dc:creator>
  <dc:description/>
  <dc:language>en-US</dc:language>
  <cp:lastModifiedBy>502</cp:lastModifiedBy>
  <dcterms:modified xsi:type="dcterms:W3CDTF">2009-08-12T04:19:40Z</dcterms:modified>
  <cp:revision>4</cp:revision>
  <dc:subject/>
  <dc:title>Jayden’s awesome power point presentation </dc:title>
</cp:coreProperties>
</file>